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5F5A-A291-4747-93A6-215757A7C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D617-573C-4C41-B54E-63FC970A7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5031-49D7-4D4D-81EC-DDA50F2D1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A96F-F78A-4089-9AA2-1F0F85ADF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3A83-BBB0-4963-9219-3D6E6F4CF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B69C-6966-469A-99B9-AE0706C63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0752-02A4-4CBB-B156-77C37C95B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8570-5CE6-40FC-AF7F-A871EC7D9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BEA0-E03E-49FF-8570-9FFC736F8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A329-FCEC-4D0A-85CA-FB414021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15B4-8AF7-4550-9BB8-39366326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E430-C1B8-4312-B9E9-6AB77763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182160"/>
            <a:ext cx="21715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25AD9-4C86-4D47-86F3-AF05B22609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0" y="0"/>
            <a:ext cx="6858000" cy="182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Logotipo_FMCC-01.png"/>
          <p:cNvPicPr/>
          <p:nvPr/>
        </p:nvPicPr>
        <p:blipFill>
          <a:blip r:embed="rId1"/>
          <a:stretch/>
        </p:blipFill>
        <p:spPr>
          <a:xfrm>
            <a:off x="1558800" y="185760"/>
            <a:ext cx="3421080" cy="1465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4"/>
          <p:cNvSpPr/>
          <p:nvPr/>
        </p:nvSpPr>
        <p:spPr>
          <a:xfrm>
            <a:off x="0" y="9242280"/>
            <a:ext cx="6858000" cy="663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"/>
          <p:cNvSpPr/>
          <p:nvPr/>
        </p:nvSpPr>
        <p:spPr>
          <a:xfrm>
            <a:off x="752400" y="2200320"/>
            <a:ext cx="53974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afios e Oportunidades na Reforma da Lei do Trabalho &amp; Preços de Transferê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 de Junho de 2019 | 17:30 | Hotel Cardoso, Mapu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468360" y="3533760"/>
            <a:ext cx="35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8"/>
          <p:cNvSpPr/>
          <p:nvPr/>
        </p:nvSpPr>
        <p:spPr>
          <a:xfrm>
            <a:off x="417600" y="4162320"/>
            <a:ext cx="606564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7h30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cepção dos convidado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8h00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ício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8h05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rvenção de Evaristo Madime, </a:t>
            </a:r>
            <a:r>
              <a:rPr b="0" lang="pt-PT" sz="1300" spc="-1" strike="noStrike">
                <a:solidFill>
                  <a:srgbClr val="000000"/>
                </a:solidFill>
                <a:latin typeface="Arial"/>
              </a:rPr>
              <a:t>Presidente do Conselho </a:t>
            </a:r>
            <a:r>
              <a:rPr b="0" lang="pt-PT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300" spc="-1" strike="noStrike">
                <a:solidFill>
                  <a:srgbClr val="000000"/>
                </a:solidFill>
                <a:latin typeface="Arial"/>
              </a:rPr>
              <a:t>Directivo da FMCC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pt-PT" sz="1300" spc="-1" strike="noStrike">
                <a:solidFill>
                  <a:srgbClr val="000000"/>
                </a:solidFill>
                <a:latin typeface="Arial"/>
              </a:rPr>
              <a:t>h10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“A Reforma da Lei do Trabalho: Riscos e Oportunidades” – HRA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dvogado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Arial"/>
              </a:rPr>
              <a:t>18h50</a:t>
            </a:r>
            <a:r>
              <a:rPr b="0" lang="pt-PT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PT" sz="1300" spc="-1" strike="noStrike">
                <a:solidFill>
                  <a:srgbClr val="000000"/>
                </a:solidFill>
                <a:latin typeface="Arial"/>
              </a:rPr>
              <a:t>Sistema de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ços de Transferência” – MXR &amp; Associado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Arial"/>
              </a:rPr>
              <a:t>19h30 </a:t>
            </a:r>
            <a:r>
              <a:rPr b="0" lang="pt-PT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300" spc="-1" strike="noStrike">
                <a:solidFill>
                  <a:srgbClr val="000000"/>
                </a:solidFill>
                <a:latin typeface="Arial"/>
              </a:rPr>
              <a:t>Sessão de Perguntas e Resposta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9h</a:t>
            </a:r>
            <a:r>
              <a:rPr b="0" lang="pt-PT" sz="13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3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0h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300" spc="-1" strike="noStrike">
                <a:solidFill>
                  <a:srgbClr val="000000"/>
                </a:solidFill>
                <a:latin typeface="Arial"/>
              </a:rPr>
              <a:t>Encerrament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9" descr="logos-supporters.jpg"/>
          <p:cNvPicPr/>
          <p:nvPr/>
        </p:nvPicPr>
        <p:blipFill>
          <a:blip r:embed="rId2"/>
          <a:stretch/>
        </p:blipFill>
        <p:spPr>
          <a:xfrm>
            <a:off x="644400" y="8329680"/>
            <a:ext cx="6066000" cy="649080"/>
          </a:xfrm>
          <a:prstGeom prst="rect">
            <a:avLst/>
          </a:prstGeom>
          <a:ln w="0">
            <a:noFill/>
          </a:ln>
        </p:spPr>
      </p:pic>
      <p:sp>
        <p:nvSpPr>
          <p:cNvPr id="86" name="Straight Connector 3"/>
          <p:cNvSpPr/>
          <p:nvPr/>
        </p:nvSpPr>
        <p:spPr>
          <a:xfrm>
            <a:off x="468360" y="9559800"/>
            <a:ext cx="578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271440" y="6740640"/>
            <a:ext cx="1287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Parceria com:</a:t>
            </a: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271440" y="7912080"/>
            <a:ext cx="1287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oiado por:</a:t>
            </a: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3"/>
          <a:stretch/>
        </p:blipFill>
        <p:spPr>
          <a:xfrm>
            <a:off x="36360" y="7066080"/>
            <a:ext cx="2168640" cy="812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"/>
          <p:cNvPicPr/>
          <p:nvPr/>
        </p:nvPicPr>
        <p:blipFill>
          <a:blip r:embed="rId4"/>
          <a:stretch/>
        </p:blipFill>
        <p:spPr>
          <a:xfrm>
            <a:off x="2028960" y="7072200"/>
            <a:ext cx="1563480" cy="812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"/>
          <p:cNvSpPr/>
          <p:nvPr/>
        </p:nvSpPr>
        <p:spPr>
          <a:xfrm>
            <a:off x="0" y="9242280"/>
            <a:ext cx="6858000" cy="663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376200" y="220680"/>
            <a:ext cx="355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8"/>
          <p:cNvSpPr/>
          <p:nvPr/>
        </p:nvSpPr>
        <p:spPr>
          <a:xfrm>
            <a:off x="184320" y="882720"/>
            <a:ext cx="606564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7h30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cepção dos convidado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8h00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ício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8h05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rvenção de Evaristo Madime, </a:t>
            </a:r>
            <a:r>
              <a:rPr b="0" lang="pt-PT" sz="1300" spc="-1" strike="noStrike">
                <a:solidFill>
                  <a:srgbClr val="000000"/>
                </a:solidFill>
                <a:latin typeface="Arial"/>
              </a:rPr>
              <a:t>Presidente do Conselho </a:t>
            </a:r>
            <a:r>
              <a:rPr b="0" lang="pt-PT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300" spc="-1" strike="noStrike">
                <a:solidFill>
                  <a:srgbClr val="000000"/>
                </a:solidFill>
                <a:latin typeface="Arial"/>
              </a:rPr>
              <a:t>Directivo da FMCC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pt-PT" sz="1300" spc="-1" strike="noStrike">
                <a:solidFill>
                  <a:srgbClr val="000000"/>
                </a:solidFill>
                <a:latin typeface="Arial"/>
              </a:rPr>
              <a:t>h10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“A Reforma da Lei do Trabalho: Riscos e Oportunidades” – HRA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dvogado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Arial"/>
              </a:rPr>
              <a:t>18h50</a:t>
            </a:r>
            <a:r>
              <a:rPr b="0" lang="pt-PT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PT" sz="1300" spc="-1" strike="noStrike">
                <a:solidFill>
                  <a:srgbClr val="000000"/>
                </a:solidFill>
                <a:latin typeface="Arial"/>
              </a:rPr>
              <a:t>Sistema de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ços de Transferência” – MXR &amp; Associado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Arial"/>
              </a:rPr>
              <a:t>19h30 </a:t>
            </a:r>
            <a:r>
              <a:rPr b="0" lang="pt-PT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300" spc="-1" strike="noStrike">
                <a:solidFill>
                  <a:srgbClr val="000000"/>
                </a:solidFill>
                <a:latin typeface="Arial"/>
              </a:rPr>
              <a:t>Sessão de Perguntas e Resposta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9h</a:t>
            </a:r>
            <a:r>
              <a:rPr b="0" lang="pt-PT" sz="13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3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0h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300" spc="-1" strike="noStrike">
                <a:solidFill>
                  <a:srgbClr val="000000"/>
                </a:solidFill>
                <a:latin typeface="Arial"/>
              </a:rPr>
              <a:t>Encerrament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9" descr="logos-supporters.jpg"/>
          <p:cNvPicPr/>
          <p:nvPr/>
        </p:nvPicPr>
        <p:blipFill>
          <a:blip r:embed="rId1"/>
          <a:stretch/>
        </p:blipFill>
        <p:spPr>
          <a:xfrm>
            <a:off x="415800" y="4818240"/>
            <a:ext cx="6066000" cy="649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Advogados-04062019.jpg"/>
          <p:cNvPicPr/>
          <p:nvPr/>
        </p:nvPicPr>
        <p:blipFill>
          <a:blip r:embed="rId2"/>
          <a:srcRect l="0" t="0" r="6765" b="0"/>
          <a:stretch/>
        </p:blipFill>
        <p:spPr>
          <a:xfrm>
            <a:off x="160200" y="3552840"/>
            <a:ext cx="3337200" cy="669960"/>
          </a:xfrm>
          <a:prstGeom prst="rect">
            <a:avLst/>
          </a:prstGeom>
          <a:ln w="0">
            <a:noFill/>
          </a:ln>
        </p:spPr>
      </p:pic>
      <p:sp>
        <p:nvSpPr>
          <p:cNvPr id="96" name="Straight Connector 3"/>
          <p:cNvSpPr/>
          <p:nvPr/>
        </p:nvSpPr>
        <p:spPr>
          <a:xfrm>
            <a:off x="468360" y="9559800"/>
            <a:ext cx="578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271440" y="3228840"/>
            <a:ext cx="1287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Parceria com:</a:t>
            </a: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271440" y="4400640"/>
            <a:ext cx="1287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oiado por:</a:t>
            </a: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8T09:14:38Z</dcterms:created>
  <dc:creator>Chrizane Van Zyl</dc:creator>
  <dc:description/>
  <dc:language>en-US</dc:language>
  <cp:lastModifiedBy>Ema Soares</cp:lastModifiedBy>
  <dcterms:modified xsi:type="dcterms:W3CDTF">2019-05-30T10:29:29Z</dcterms:modified>
  <cp:revision>9</cp:revision>
  <dc:subject/>
  <dc:title>PowerPoint Presentation</dc:title>
</cp:coreProperties>
</file>